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357F0C-BF7B-454E-A72F-CC0546DB2A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BA8B0E7-3289-4A7B-A013-3C9657505F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03BD299-F72D-4C31-AC3A-92074C0154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D237C29-96A5-4FAD-807D-F2E8BD2CB5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68679C9-E36C-4582-BBE3-3BC0122103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F5F6DF3-2F5D-4A0B-B731-4F8C2FB642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CAC1E9E-9A83-4978-92AC-2DABC7AA98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C98808B-1C94-4F18-9681-90CA4149F7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37BD305-A273-4F34-9C2D-757EF86510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AA8899E-4405-4A0F-AAE5-C257A25AB9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F4D164-6C7C-4C67-9E71-227B73160A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667515C-426A-46CB-9106-8EF45EFAF1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E1159-12EC-4668-8299-2E1E29E37DD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276640"/>
            <a:ext cx="7416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4000"/>
            </a:br>
            <a:br>
              <a:rPr sz="4000"/>
            </a:br>
            <a:r>
              <a:rPr b="1" lang="zh-CN" sz="3200" spc="-1" strike="noStrike">
                <a:solidFill>
                  <a:srgbClr val="ffffff"/>
                </a:solidFill>
                <a:latin typeface="Verdana"/>
                <a:ea typeface="宋体"/>
              </a:rPr>
              <a:t>第十六节   糖尿病的康复</a:t>
            </a:r>
            <a:endParaRPr b="0" lang="en-US" sz="3200" spc="-1" strike="noStrike">
              <a:solidFill>
                <a:srgbClr val="ffffff"/>
              </a:solidFill>
              <a:latin typeface="Verdana"/>
            </a:endParaRPr>
          </a:p>
        </p:txBody>
      </p:sp>
      <p:sp>
        <p:nvSpPr>
          <p:cNvPr id="105" name="Text Box 5"/>
          <p:cNvSpPr/>
          <p:nvPr/>
        </p:nvSpPr>
        <p:spPr>
          <a:xfrm>
            <a:off x="6300720" y="5373720"/>
            <a:ext cx="187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郭非</a:t>
            </a:r>
            <a:r>
              <a:rPr b="1" lang="zh-CN" sz="3200" spc="-1" strike="noStrike">
                <a:solidFill>
                  <a:srgbClr val="046ca6"/>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130" name="Picture 4" descr="u=613990031,1690255852&amp;fm=23&amp;gp=0"/>
          <p:cNvPicPr/>
          <p:nvPr/>
        </p:nvPicPr>
        <p:blipFill>
          <a:blip r:embed="rId1"/>
          <a:stretch/>
        </p:blipFill>
        <p:spPr>
          <a:xfrm>
            <a:off x="1042920" y="1197000"/>
            <a:ext cx="7201080" cy="496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3" name="Picture 2" descr="F:\baidu download\6530_8c789534-6f41-4f18-b529-45a200f91711.jpg"/>
          <p:cNvPicPr/>
          <p:nvPr/>
        </p:nvPicPr>
        <p:blipFill>
          <a:blip r:embed="rId1"/>
          <a:stretch/>
        </p:blipFill>
        <p:spPr>
          <a:xfrm>
            <a:off x="1403280" y="981000"/>
            <a:ext cx="6408720" cy="540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6" name="Picture 2" descr="F:\baidu download\252591_213331048_2.jpg"/>
          <p:cNvPicPr/>
          <p:nvPr/>
        </p:nvPicPr>
        <p:blipFill>
          <a:blip r:embed="rId1"/>
          <a:stretch/>
        </p:blipFill>
        <p:spPr>
          <a:xfrm>
            <a:off x="304920" y="1413000"/>
            <a:ext cx="8610480" cy="475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运动疗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运动治疗可降低血糖，纠正血脂紊乱，有助于减肥，改善胰岛素的敏感性，降血压，锻炼心肺功能，防治骨质疏松，预防和控制糖尿病慢性并发症的发生和发展，增强体力及运动能力，改善精神状态。</a:t>
            </a:r>
            <a:endParaRPr b="1" lang="en-US" sz="2400" spc="-1" strike="noStrike">
              <a:solidFill>
                <a:srgbClr val="8ac8de"/>
              </a:solidFill>
              <a:latin typeface="Verdana"/>
            </a:endParaRPr>
          </a:p>
        </p:txBody>
      </p:sp>
      <p:sp>
        <p:nvSpPr>
          <p:cNvPr id="138" name="PlaceHolder 2"/>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24000" y="112500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适应证</a:t>
            </a:r>
            <a:endParaRPr b="1" lang="en-US" sz="32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控制稳定的</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型糖尿病（尤其是体重超重的</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型糖尿病）患者</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稳定期的</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型糖尿病血糖控制良好者</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稳定期的妊娠糖尿病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禁忌证</a:t>
            </a:r>
            <a:endParaRPr b="1" lang="en-US" sz="32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糖尿病合并各种疾病感染</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或伴有心功能不全、心律失常，并且活动后加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严重慢性并发症（心、肾、视网膜、足的病变）有明显酮症酸中毒</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脑血管意外（脑出血、脑梗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肝、肾衰竭等</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4"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动处方</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运动方式：低中等强度的有氧运动，如步行、慢跑、骑自行车、爬山、爬楼梯、游泳、跳舞、跳绳、太极拳、气功、滑冰、划船以及一些球类活动（乒乓球、保龄球、门球、台球）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6" name="PlaceHolder 2"/>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运动强度：强度决定了效果，糖尿病患者运动强度应控制在中等量。在制订和实施运动计划的过程中，要因人而异，根据患者的肥胖程度、糖尿病类型和并发症情况，制订出将风险降至最低的个体化运动处方。运动中保持心率或脉率＝</a:t>
            </a:r>
            <a:r>
              <a:rPr b="1" lang="en-US" sz="2800" spc="-1" strike="noStrike">
                <a:solidFill>
                  <a:srgbClr val="8ac8de"/>
                </a:solidFill>
                <a:latin typeface="Verdana"/>
                <a:ea typeface="宋体"/>
              </a:rPr>
              <a:t>170</a:t>
            </a:r>
            <a:r>
              <a:rPr b="1" lang="zh-CN" sz="2800" spc="-1" strike="noStrike">
                <a:solidFill>
                  <a:srgbClr val="8ac8de"/>
                </a:solidFill>
                <a:latin typeface="Verdana"/>
                <a:ea typeface="宋体"/>
              </a:rPr>
              <a:t>－年龄，感觉周身发热出汗（不是大汗淋漓）。达到运动强度后，应坚持</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左右。</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频率：运动持续时间可根据个人耐受能力，每次运动时间在</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左右，中间可休息再继续，每天坚持或一周</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次。</a:t>
            </a: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动疗法前，应当全面检查，运动前和后要热身并及时监控血糖，中间可饮水，运动前后避免饮酒。运动时要穿着宽松、舒适的衣服和鞋袜，保护好足。患者运动时要随身携带糖尿病保健卡（姓名、年龄、家庭住址和电话号码</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应避免在空腹时或使用降糖药物</a:t>
            </a:r>
            <a:r>
              <a:rPr b="1" lang="en-US" sz="2800" spc="-1" strike="noStrike">
                <a:solidFill>
                  <a:srgbClr val="8ac8de"/>
                </a:solidFill>
                <a:latin typeface="Verdana"/>
                <a:ea typeface="宋体"/>
              </a:rPr>
              <a:t>6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分钟后进行运动，以防低血糖的发生。应安排在餐后</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分钟进行。运动时应准备糖块或含糖饮料，以备低血糖的出现。进行运动疗法时量力而行，持之以恒，不要松懈。</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康复教育</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糖尿病是一种累及全身，需要终身治疗的疾病，其治疗影响因素较多，如饮食不能节制、情绪不稳定、劳累过度、运动不足、感染、失眠，以及自行增减药物、骤停药物和更换药物等，均可引起病情的反复和加重。糖尿病病人只靠医生的治疗是远远不够的，所以，需要对病人进行康复教育，使病人进行严格的自我管理。患者要了解糖尿病基本知识，正确认识糖尿病，树立起战胜疾病的信心和决心，认清慢性并发症的危害，认真地去进行饮食、运动治疗。此外，能定期检查血糖、尿糖及血脂，防止或延缓其并发症的发生或加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糖尿病（</a:t>
            </a:r>
            <a:r>
              <a:rPr b="1" lang="en-US" sz="2800" spc="-1" strike="noStrike">
                <a:solidFill>
                  <a:srgbClr val="8ac8de"/>
                </a:solidFill>
                <a:latin typeface="Verdana"/>
                <a:ea typeface="宋体"/>
              </a:rPr>
              <a:t>diabetes mellitus</a:t>
            </a:r>
            <a:r>
              <a:rPr b="1" lang="zh-CN" sz="2800" spc="-1" strike="noStrike">
                <a:solidFill>
                  <a:srgbClr val="8ac8de"/>
                </a:solidFill>
                <a:latin typeface="Verdana"/>
                <a:ea typeface="宋体"/>
              </a:rPr>
              <a:t>）是由各种原因造成的胰岛素分泌绝对或相对不足，以及机体靶组织或靶器官对胰岛素敏感性降低引起的以血糖水平升高为基本生化特征的，可伴有蛋白质、脂肪和继发的水、电解质代谢紊乱的内分泌及代谢疾病。是世界上患病率最高、增长速度最快的疾病之一，是死亡发生原因的第</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位，也是致残的重要原因之一。因此，糖尿病的治疗和康复有其重要意义。</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5" name="Picture 2" descr="F:\baidu download\11466026_214952.jpg"/>
          <p:cNvPicPr/>
          <p:nvPr/>
        </p:nvPicPr>
        <p:blipFill>
          <a:blip r:embed="rId1"/>
          <a:stretch/>
        </p:blipFill>
        <p:spPr>
          <a:xfrm>
            <a:off x="2124000" y="333360"/>
            <a:ext cx="4969080" cy="6191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551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主要功能障碍</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运动能力减退由于糖代谢障碍，导致肌力减退和肌肉萎缩，运动能力减退和疲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视力障碍糖尿病合并白内障、青光眼及视网膜病变时视力减低，严重者失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肾功能障碍肾脏损害导致慢性肾衰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心血管功能障碍糖尿病合并高血压、冠心病等，导致心血管功能减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3" name="Picture 5" descr="u=451751899,2513511528&amp;fm=23&amp;gp=0"/>
          <p:cNvPicPr/>
          <p:nvPr/>
        </p:nvPicPr>
        <p:blipFill>
          <a:blip r:embed="rId1"/>
          <a:stretch/>
        </p:blipFill>
        <p:spPr>
          <a:xfrm>
            <a:off x="571680" y="1143000"/>
            <a:ext cx="8143560" cy="5357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步行障碍糖尿病合并外周血管病变、截肢和糖尿病坏疽足时出现步行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自主神经和周围神经障碍糖尿病合并神经病变时，出现直立性低血压、排尿障碍、感觉异常（末梢神经炎）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心理障碍由于上述功能障碍，往往伴有精神抑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日常生活自理能力和工作能力障碍由于长期患病，其运动能力、视力、感觉功能等障碍，日常生活自理能力和工作能力普遍下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主要功能障碍</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8" name="Picture 4" descr="u=2340958807,1010229241&amp;fm=23&amp;gp=0"/>
          <p:cNvPicPr/>
          <p:nvPr/>
        </p:nvPicPr>
        <p:blipFill>
          <a:blip r:embed="rId1"/>
          <a:stretch/>
        </p:blipFill>
        <p:spPr>
          <a:xfrm>
            <a:off x="642960" y="1357200"/>
            <a:ext cx="8215200" cy="514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71640" y="4759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运动能力评定可采用分级心电运动试验、</a:t>
            </a:r>
            <a:r>
              <a:rPr b="1" lang="en-US" sz="2400" spc="-1" strike="noStrike">
                <a:solidFill>
                  <a:srgbClr val="8ac8de"/>
                </a:solidFill>
                <a:latin typeface="Verdana"/>
                <a:ea typeface="宋体"/>
              </a:rPr>
              <a:t>12</a:t>
            </a:r>
            <a:r>
              <a:rPr b="1" lang="zh-CN" sz="2400" spc="-1" strike="noStrike">
                <a:solidFill>
                  <a:srgbClr val="8ac8de"/>
                </a:solidFill>
                <a:latin typeface="Verdana"/>
                <a:ea typeface="宋体"/>
              </a:rPr>
              <a:t>分钟步行或者</a:t>
            </a:r>
            <a:r>
              <a:rPr b="1" lang="en-US" sz="2400" spc="-1" strike="noStrike">
                <a:solidFill>
                  <a:srgbClr val="8ac8de"/>
                </a:solidFill>
                <a:latin typeface="Verdana"/>
                <a:ea typeface="宋体"/>
              </a:rPr>
              <a:t>12</a:t>
            </a:r>
            <a:r>
              <a:rPr b="1" lang="zh-CN" sz="2400" spc="-1" strike="noStrike">
                <a:solidFill>
                  <a:srgbClr val="8ac8de"/>
                </a:solidFill>
                <a:latin typeface="Verdana"/>
                <a:ea typeface="宋体"/>
              </a:rPr>
              <a:t>分钟跑。试验有利于发现潜在的心血管疾病、确定心肺功能、协助制订靶运动强度、确定运动的危险性等。运动中血糖监测有利于确定患者运动方案，并提高锻炼的安全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肌力评定采用机械肌力评定的方式，例如握力评定、背拉力评定、等速肌力评定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糖代谢控制评定糖代谢控制标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有并发症者应该进行与并发症相关的评定例如视力评定、步行能力评定、自主神经、感觉神经评定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糖尿病控制标准（亚洲太平洋地区</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型糖尿病政策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饮食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运动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药物疗法</a:t>
            </a:r>
            <a:endParaRPr b="1" lang="en-US" sz="2800" spc="-1" strike="noStrike">
              <a:solidFill>
                <a:srgbClr val="8ac8de"/>
              </a:solidFill>
              <a:latin typeface="Verdana"/>
            </a:endParaRPr>
          </a:p>
        </p:txBody>
      </p:sp>
      <p:pic>
        <p:nvPicPr>
          <p:cNvPr id="123" name="Picture 7" descr="F:\baidu download\u=2901203124,3247405215&amp;fm=23&amp;gp=0.jpg"/>
          <p:cNvPicPr/>
          <p:nvPr/>
        </p:nvPicPr>
        <p:blipFill>
          <a:blip r:embed="rId1"/>
          <a:stretch/>
        </p:blipFill>
        <p:spPr>
          <a:xfrm>
            <a:off x="3851280" y="2060640"/>
            <a:ext cx="4537080" cy="3649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25" name="Picture 2" descr="F:\baidu download\5817404_135512242358_2.jpg"/>
          <p:cNvPicPr/>
          <p:nvPr/>
        </p:nvPicPr>
        <p:blipFill>
          <a:blip r:embed="rId1"/>
          <a:stretch/>
        </p:blipFill>
        <p:spPr>
          <a:xfrm>
            <a:off x="2195640" y="1952640"/>
            <a:ext cx="5583240" cy="4295880"/>
          </a:xfrm>
          <a:prstGeom prst="rect">
            <a:avLst/>
          </a:prstGeom>
          <a:ln w="0">
            <a:noFill/>
          </a:ln>
        </p:spPr>
      </p:pic>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
        <p:nvSpPr>
          <p:cNvPr id="127" name="TextBox 1"/>
          <p:cNvSpPr/>
          <p:nvPr/>
        </p:nvSpPr>
        <p:spPr>
          <a:xfrm>
            <a:off x="1116000" y="1268280"/>
            <a:ext cx="338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一）饮食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药蓉</cp:lastModifiedBy>
  <cp:lastPrinted>1899-12-30T00:00:00Z</cp:lastPrinted>
  <dcterms:modified xsi:type="dcterms:W3CDTF">2015-05-26T07:08:57Z</dcterms:modified>
  <cp:revision>4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